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49D-BA06-4A34-9DB2-68FC6F85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28A-4C69-4211-96A6-774A8979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569-24CB-4556-9F5F-58201E3D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E2C-7191-4B26-A54C-A44C5E1B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22C-C7E4-4F33-81DC-DB3161EE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A09-0E5F-4DB6-B40D-F5EBB1E7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1BB-A8BA-4389-8843-2C4F8B5A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AFB-DDFE-4B92-A76A-C179EA9E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87A-5457-46EC-8B88-89527EA6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687-A884-4867-A4EC-D3BDA098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510-F5A1-4E3B-A02C-FDB7B0F8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98D-6A0B-49CA-9E96-CC8F9BC3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7972-7852-482B-9AC3-7D7007487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and Incomplete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lly and Be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358128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867280" y="358128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ly and B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5029200"/>
            <a:ext cx="82296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know what they did. This sentence doesn’t tell us the action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572000" y="411336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33520" y="411156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mother and her fri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520" y="350532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867280" y="3505320"/>
            <a:ext cx="289584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ther and her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5486400"/>
            <a:ext cx="82296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know what they did. This sentence doesn’t tell us the action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572000" y="457056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33520" y="456876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OMPLETE THE INDEPENDENT PRACTICE HANDOU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ittens pur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74176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095880" y="274176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tt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572000" y="327492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33520" y="47242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3520" y="327348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2209680" y="1219320"/>
            <a:ext cx="50292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m and Dad went to the sto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33520" y="274320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095880" y="2743200"/>
            <a:ext cx="266724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and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572000" y="373392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t to th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33520" y="49528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3520" y="373392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d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1066680" y="1219320"/>
            <a:ext cx="7010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obby and Jimm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3520" y="259092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67280" y="2590920"/>
            <a:ext cx="289584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by and Jim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33520" y="5029200"/>
            <a:ext cx="82296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know what they did. This sentence doesn’t tell us the action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572000" y="365616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3520" y="365436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lowers bloo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572000" y="327672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33520" y="457200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33520" y="327492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2590920" y="1219320"/>
            <a:ext cx="40384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kes it when I get all A’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33520" y="29718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867280" y="297180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33520" y="44956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likes it when I get all A’s?  We don’t know! This sentence doesn’t tell us the WHO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e went swimm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572000" y="327672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t swi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33520" y="457200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33520" y="327492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d s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2362320" y="1219320"/>
            <a:ext cx="43434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o our homework every nigh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3520" y="29718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867280" y="297180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33520" y="44956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oes their homework every night?  We don’t know! This sentence doesn’t tell us the WHO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know when a sentence is comple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613720" cy="1828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answer the two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?”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 doing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28600" y="3505320"/>
            <a:ext cx="8612280" cy="309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n answer these two questions, the sentence h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aming part) an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elling part).  These are the two part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ula, Sue, and Pa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520" y="259092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867280" y="2590920"/>
            <a:ext cx="289584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a, Sue, and 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33520" y="5029200"/>
            <a:ext cx="82296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know what they did. This sentence doesn’t tell us the action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72000" y="365616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33520" y="365436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rla made a homeru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0" y="327672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a home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33520" y="457200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33520" y="327492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d s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2133720" y="1143000"/>
            <a:ext cx="50292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ys ball with Sam and 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3520" y="29718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867280" y="297180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33520" y="44956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plays ball with Sam and me?  We don’t know! This sentence doesn’t tell us the WHO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anny gave Ginny a hu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572000" y="327672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Ginny a h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33520" y="457200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33520" y="327492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d s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1905120" y="1143000"/>
            <a:ext cx="54864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:  YOU KNOW A SENTENCE IS COMPLETE 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answer the two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?”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 doing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04920" y="3505320"/>
            <a:ext cx="8611920" cy="309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n answer these two questions, the sentence h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aming part) an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elling part).  These are the two part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chased the mail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33520" y="3505320"/>
            <a:ext cx="8229600" cy="1383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d it do?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SED THE MAI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33520" y="49528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’s dad drives the tru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35053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095880" y="35053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’s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572000" y="403848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s the tr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533520" y="49528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33520" y="403704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 makes a big splas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3520" y="35053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095880" y="35053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572000" y="403848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a big spla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3520" y="49528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33520" y="403704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ogs croa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520" y="35053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095880" y="35053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876920" y="4038480"/>
            <a:ext cx="388620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33520" y="49528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33520" y="4037040"/>
            <a:ext cx="441936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 grabs his th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33520" y="35053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095880" y="35053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572000" y="4038480"/>
            <a:ext cx="419112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bs his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33520" y="495288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nswer our two questions “WHO?” and “WHAT IS IT DOING?” so this IS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33520" y="4037040"/>
            <a:ext cx="403848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d our homewor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3520" y="35053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095880" y="35053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33520" y="423720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” did our homework?  We don’t know. This sentence doesn’t tell us WHO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06668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yed on my tea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58128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190512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if the group of words answers the two questions needed for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095880" y="358128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33520" y="4313160"/>
            <a:ext cx="8229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” played on my team?  We don’t know. This sentence doesn’t tell us WHO, so it is in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18:52:58Z</dcterms:created>
  <dc:creator>Kristen M. Clasen</dc:creator>
  <dc:description/>
  <dc:language>en-US</dc:language>
  <cp:lastModifiedBy>Laura McDow</cp:lastModifiedBy>
  <dcterms:modified xsi:type="dcterms:W3CDTF">2010-07-29T11:53:14Z</dcterms:modified>
  <cp:revision>10</cp:revision>
  <dc:subject/>
  <dc:title>Complete and Incomplete Sentences</dc:title>
</cp:coreProperties>
</file>